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flect and record their responses to the ques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t is Proportional Reasoning on sticky notes.  Each idea will go on a separate not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 groups of 2 or 4, participants begin to create a concept web from common understandings and ideas and organizing sticky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cuss with participants that we will revisit the concept map throughout our Proportional Reasoning breakout se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lick to next slide to review example of “Concept Ma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94C1-C577-49AA-BB18-DB794F77C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78E5-0BF3-47CE-9437-16045818A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48E9-DAB6-432E-879C-DB88342EA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C63CC-91B5-4AA0-B50A-96D8F133CC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8ED6E-5E87-45E7-BA5A-B23BEF1259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DE51-90DC-4EE0-B05C-F3858D5AD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1C39-D111-4260-BF49-A209ADAF9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85D6-55CF-4DE9-B664-530AE8845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6A38-C943-4A56-9197-D0A6C77C9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AD1F-A03D-474F-8DAD-C1721C797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9597-3F1E-4D64-BCEB-960829054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2D891-373A-4B5D-B327-35DE51430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4B9F-46EB-44E6-9588-335D5913E7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0B09-F8C8-4425-A17C-FAEA17DFFB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The End of Math CamPPP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Is Just The Beginning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your table, begin to organize your notes to create a “Concept M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cept maps are graphical tools for organizing and representing knowledge. They include concepts, usually enclosed in circles or boxes of some type, and relationships between concepts indicated by a connecting line linking two concepts. Words on the line, referred to as linking words or linking phrases, specify the relationship between the two concept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The Theory Underlying Concept Maps and How to Construct and Use Th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Joseph D. Nov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map.ihmc.us/publications/researchpapers/theorycmaps/theoryunderlyingconceptmap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705720" y="7632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 pattern additions to char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4" name="Content Placeholder 4" descr="Screen shot 2011-08-10 at 12.18.56 PM.png"/>
          <p:cNvPicPr/>
          <p:nvPr/>
        </p:nvPicPr>
        <p:blipFill>
          <a:blip r:embed="rId1"/>
          <a:srcRect l="18346" t="0" r="18346" b="0"/>
          <a:stretch/>
        </p:blipFill>
        <p:spPr>
          <a:xfrm>
            <a:off x="1523880" y="1371600"/>
            <a:ext cx="5943600" cy="5257800"/>
          </a:xfrm>
          <a:prstGeom prst="rect">
            <a:avLst/>
          </a:prstGeom>
          <a:ln w="0">
            <a:noFill/>
          </a:ln>
        </p:spPr>
      </p:pic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3682-7220-40DA-813C-F2DAD36059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1"/>
          <p:cNvGrpSpPr/>
          <p:nvPr/>
        </p:nvGrpSpPr>
        <p:grpSpPr>
          <a:xfrm>
            <a:off x="1905120" y="2133720"/>
            <a:ext cx="5486400" cy="2974320"/>
            <a:chOff x="1905120" y="2133720"/>
            <a:chExt cx="5486400" cy="2974320"/>
          </a:xfrm>
        </p:grpSpPr>
        <p:sp>
          <p:nvSpPr>
            <p:cNvPr id="57" name="TextBox 5"/>
            <p:cNvSpPr/>
            <p:nvPr/>
          </p:nvSpPr>
          <p:spPr>
            <a:xfrm>
              <a:off x="1905120" y="21337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eating Patter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6"/>
            <p:cNvSpPr/>
            <p:nvPr/>
          </p:nvSpPr>
          <p:spPr>
            <a:xfrm>
              <a:off x="5639040" y="21337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wing Patter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10"/>
            <p:cNvGrpSpPr/>
            <p:nvPr/>
          </p:nvGrpSpPr>
          <p:grpSpPr>
            <a:xfrm>
              <a:off x="3581280" y="4496400"/>
              <a:ext cx="1981080" cy="611640"/>
              <a:chOff x="3581280" y="4496400"/>
              <a:chExt cx="1981080" cy="611640"/>
            </a:xfrm>
          </p:grpSpPr>
          <p:sp>
            <p:nvSpPr>
              <p:cNvPr id="60" name="TextBox 7"/>
              <p:cNvSpPr/>
              <p:nvPr/>
            </p:nvSpPr>
            <p:spPr>
              <a:xfrm>
                <a:off x="3581280" y="46483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onnectio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1" name="Straight Arrow Connector 9"/>
              <p:cNvCxnSpPr/>
              <p:nvPr/>
            </p:nvCxnSpPr>
            <p:spPr>
              <a:xfrm>
                <a:off x="3733200" y="4496400"/>
                <a:ext cx="1600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</p:grpSp>
      </p:grpSp>
      <p:sp>
        <p:nvSpPr>
          <p:cNvPr id="62" name="TextBox 12"/>
          <p:cNvSpPr/>
          <p:nvPr/>
        </p:nvSpPr>
        <p:spPr>
          <a:xfrm>
            <a:off x="7551720" y="2209680"/>
            <a:ext cx="5461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14"/>
          <p:cNvCxnSpPr/>
          <p:nvPr/>
        </p:nvCxnSpPr>
        <p:spPr>
          <a:xfrm flipH="1">
            <a:off x="1142640" y="2438280"/>
            <a:ext cx="2160" cy="320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Key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rn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h-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i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057400" y="1828800"/>
            <a:ext cx="4975200" cy="19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Thank You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omputer Services</cp:lastModifiedBy>
  <dcterms:modified xsi:type="dcterms:W3CDTF">2011-08-22T02:36:57Z</dcterms:modified>
  <cp:revision>43</cp:revision>
  <dc:subject/>
  <dc:title>&lt;Title&gt;</dc:title>
</cp:coreProperties>
</file>